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C0B1-697B-4CC8-88D4-DD64295D8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C491-8FD3-485A-B70F-9A16CAB5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652C-572F-4EA7-9F17-116CFC26B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D832-129A-4022-B643-CE6E72E9F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1492-83EB-4DBD-82A8-3CB1078F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33E3-4DE1-45F2-AE25-95EF7439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1425-7F29-4502-AEA0-3316F38E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28BA-1DA4-414D-92D4-D12D239F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295B-62C6-42FB-8B69-F2527B46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479E-DF44-452B-B301-08E0AC14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1BE9-1077-4099-AC39-89FC0FB1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9828-84E4-4DDD-B392-B6C966C6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8585-EB0F-45CA-894D-562C16FB8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java.sun.com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Obje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3619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Counter page 89 and 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variables declared in a method only tempo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Count is a local variable good only while the method exists. It is an instance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r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 1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eenshot shows number of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im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lid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Raindrops” page 1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te JSlider slid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der = new JSlider(JSlider.HORIZONTAL, 200, 2000, 1000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.add (slider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pField = new JTextField(10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pField.setText(Integer.to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slider.getValue( ) ) 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Java language has a vast number of classes which you can (and ought to) 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write your own code without investigating the libraries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check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java.sun.c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search tutorials and references about the various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ntiation using random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93 “RandomLin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te Random randomPositions = new Random( 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End = randomPositions.nextInt (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method to generate a number from the range 0 to 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wing toolk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ed as a Java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s look the same on every platform (JButtons for 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 – like a bu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– adjust a sl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s” current class (child) inherits from another class (par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ing a JButton CarCounter extends JFame page 9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te JButton butt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ton = new JButton (“Car Enterng”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.add(button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button clicked actionListener c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al Guides for using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what is to be im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a constructor (with “new”) to be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window, if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instance via it’s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294920"/>
            <a:ext cx="8077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 102 SumTextFields uses JLabel class to display non-changing text field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281952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 JTextField number1Field, number2Field, sumFiel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TextField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ngle line area to display text  or input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Field1 = new JTextField(1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Field2 = new JTextField(“Hello!” ,1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 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textField1.getText(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Field1.setText(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Panel clas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for drawing, or to hold objects such as butt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nel = new JPanel( 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el.setPreferedSize(new Dimension(200,200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.add(panel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r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ly spaced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rs, control sp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visible as Button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8T15:10:43Z</dcterms:created>
  <dc:creator>ITS</dc:creator>
  <dc:description/>
  <dc:language>en-US</dc:language>
  <cp:lastModifiedBy>ITS</cp:lastModifiedBy>
  <dcterms:modified xsi:type="dcterms:W3CDTF">2005-04-29T13:02:59Z</dcterms:modified>
  <cp:revision>4</cp:revision>
  <dc:subject/>
  <dc:title>Using Objects Chapter 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99523860</vt:r8>
  </property>
  <property fmtid="{D5CDD505-2E9C-101B-9397-08002B2CF9AE}" pid="3" name="_AuthorEmail">
    <vt:lpwstr>rfarkas@ccac.edu</vt:lpwstr>
  </property>
  <property fmtid="{D5CDD505-2E9C-101B-9397-08002B2CF9AE}" pid="4" name="_AuthorEmailDisplayName">
    <vt:lpwstr>Farkas, Roderic R.</vt:lpwstr>
  </property>
  <property fmtid="{D5CDD505-2E9C-101B-9397-08002B2CF9AE}" pid="5" name="_EmailSubject">
    <vt:lpwstr>Bell and Parr Chapter 6</vt:lpwstr>
  </property>
</Properties>
</file>